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47D-2718-4797-8B84-19897D40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375-1D2C-4A91-8391-304C052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0FB-E029-4DCE-A983-D4EBA270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51E-CE5E-4D92-BEBE-B068964B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0E2-C668-44C3-B125-1EC93865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93A-742E-4D95-8B4A-314D8E4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DB3-0C62-45B0-AEEA-F55C96E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0AD-B4D1-47EE-98E8-72604F2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D3A-FF28-42B6-BCFC-C56FB8C2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1DD-9B34-46E4-A40B-4AD2230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634-777C-4387-9BA3-9451107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6D2-F66A-4A42-A7F1-8110AA4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BBB9-B42F-4BCD-A559-D8EFB776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457200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457200"/>
            <a:ext cx="2971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486400"/>
            <a:ext cx="510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2"/>
          <a:stretch/>
        </p:blipFill>
        <p:spPr>
          <a:xfrm>
            <a:off x="1828800" y="1676520"/>
            <a:ext cx="5638680" cy="173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502920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8760" y="3808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orade rehydrates many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Since the Gators credited the drink there are more than 15 flavors of Gato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ey were investigating why water wasn’t enough to hydrate athletes on the playing fi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Gatorade became a household name when the tradition of pouring the Gatorade jug over the winning team coach’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e Quaker Oats Co. bought Stok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Dr.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e was born in 1927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obert was studying to be a internist and a nephrolog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e went to the University of Texas Medical school in D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obert was working with Sto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 1978 Cade went back to working with medic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he coach asked his team doctor, one of Cade’s associates, for hel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0Z</dcterms:created>
  <dc:creator>install</dc:creator>
  <dc:description/>
  <dc:language>en-US</dc:language>
  <cp:lastModifiedBy>install</cp:lastModifiedBy>
  <dcterms:modified xsi:type="dcterms:W3CDTF">2010-05-12T17:35:44Z</dcterms:modified>
  <cp:revision>7</cp:revision>
  <dc:subject/>
  <dc:title>Slide 1</dc:title>
</cp:coreProperties>
</file>